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C5B-DBAE-4EB5-9ED7-A85B656D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568-98B1-47E1-ACB0-CA9DDCB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C29-4EE7-4BBD-9EB3-03CC9D62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4D3-86B3-4C34-BAC5-8EFEDBD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031C-3297-45DC-804B-2809BCC8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D80-1B3C-489A-B4CF-2F54E3AB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4929-5F39-4579-8887-3CA6BF7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524-5CCA-49A9-BE09-F5971FD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CDB-02F4-435D-867E-09D13161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6180-6795-4BC6-A92D-F8F1D01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4A0B-D617-4E83-B4C6-A81FF59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96F-B02F-45B6-AFBF-F591A2E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DE2D-EF0D-4D6C-ABD8-EE08AC6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E28-79F8-4ED2-8215-7A9938F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121-B849-4B54-A0D0-F8D4E56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3AC5-E18D-4390-BA9F-CECCF6E1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AF94-DA93-4820-B2D2-8C1831D6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DB92-007F-4426-B98B-755558B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E68B-AE54-4E72-A536-F174370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A370-095C-41FD-84C3-2ABAE8C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C1C2-D09A-4D41-A49D-93B5DFDB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46FC-D3C7-4EED-83D3-5C8ACCB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1CE-2184-4ABC-8F2A-8CB8A1A9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0DDC-2484-4388-91AE-81229157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880E-A9DD-4296-9FC3-802869B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F017-99B0-40D0-B622-EF11B3B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594D-D713-4C40-BB6A-39EDBE2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E4B6-F1C2-4E9A-9227-4D2E42F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A160-447F-474E-AC20-A07430FD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3180-FAE8-405E-967B-23ED797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9CF9-59B1-4AC6-B0BA-ABA19018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CE90-31EE-44AD-8CF0-F5B54DE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04B9-9710-4609-89B0-23560A94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7B3-9A8E-4DF7-90AA-FF46EB60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3FE0-44CE-4D55-A35A-123BE45C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1B67-843B-404A-944B-5166F4C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6603-5AC2-4E67-BDF0-9C4F62A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97A8-A10D-439E-BBEB-B27B72A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B6A6-5EE4-4D69-8A67-E1F1569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3C70-CFE3-4DEB-9242-657EAB8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34CC-6DAC-4E8F-ABFF-97529403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E0A0-796F-4A69-8B25-82DDAE11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5BAA-C51A-4E0B-B13B-1CE5643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FB49C-FB39-4D70-AC44-8EC3831B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411-5F47-48D9-9C5B-4D75E5A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B00B-3FF3-4515-97FA-6B61FA5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787E-6C82-458F-B2EB-98F7209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503F-CA95-4C76-B7B6-48B066C9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E653A-5648-4551-B9DD-E11A38F9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6226-A1AC-4ED6-9772-E7D08CA5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7EA7-BEED-4551-BEB8-1255AB9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E6BD-5FCD-4C6A-82BB-E991694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422EE-0BFC-4E2B-A21F-522E3A2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09B5-78E1-43B1-8D28-C5B029A1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6AD4-BD20-412D-AC21-587EEAEE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ADC-263B-4B20-890C-922CAC5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BD71-9284-4E1C-A45B-0EBFB759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454-88B4-46D1-87A3-5F88D93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698-7E20-4BBE-98B3-A6BA0D0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8FA-A7C4-44FA-9326-54AB5C2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5D8-AF35-448D-A1EC-AEDB4710D43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FA2-7E23-4742-AF41-46EBF2D06AB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982F-0ED9-49D2-99BB-A24EB7D50A4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9192-3C97-488F-BCD9-D309330FD0F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BBF-B04D-4B62-A143-7298CB5815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ÁT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signifi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9640" y="2060640"/>
          <a:ext cx="8229600" cy="434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ABRAS LÉX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ATI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L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SIGNIFICADO SOLO GRAMA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NTIVO (Laura, hij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O ( canta, sali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TIVO CALIFI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equeña, conten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IO ( muy, ay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MBRE (ella, él, es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E ( su, u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CIÓN ( a, c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UNCIÓN ( y, p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ÓN  (oh, cara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24000" y="1773360"/>
          <a:ext cx="8424720" cy="4871880"/>
        </p:xfrm>
        <a:graphic>
          <a:graphicData uri="http://schemas.openxmlformats.org/drawingml/2006/table">
            <a:tbl>
              <a:tblPr/>
              <a:tblGrid>
                <a:gridCol w="2874600"/>
                <a:gridCol w="5550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XEMA O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rta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 en Mar-ino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LEXIVO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modifican el signific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do gramatical: género, 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rin-o ; marin-a) (marino-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ERIVATIVO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PREFIJOS: delante de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 mari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SUFIJOS: detrás de la raí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mar-ino; mar-ítimo; mar-iner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ES DE PALABRAS</a:t>
            </a:r>
            <a:br>
              <a:rPr sz="4000"/>
            </a:b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gún for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4000" y="1773360"/>
          <a:ext cx="8424720" cy="481644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ten morfemas flexivo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sustantivos, adjetivos, pronombres, verbos, determinan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llevan nunca morf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reposiciones, conjunciones, adverbi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eccio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un solo lexem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apeles, pi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E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nen dos lexema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pisapapeles, sacacorch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INTAG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. Un sintagma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palabra o grupo de palab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sentido 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cumple una función en la fr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lleva obligatoriamente un 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CLASES DE SINTAG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NOMINAL (SN) :su núcleo es un sustantivo o pro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VERBAL (SV) : su núcleo es un ver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JETIVAL ( S.Adj): núcleo un ad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ADVERBIAL (S.Adv): núcleo es adverb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TAGMA PREPOSICIONAL ( S.Prep): preposición (ENLACE) y sintagma nominal ( TÉRMI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FUNCIÓN DE LOS SINTAG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1. SUJETO   (SN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 sustan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nomb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alabra sustantiv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. PREDICADO  (SV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núcleo es el ver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3. COMPLEMENTO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ujeto: SN, Sadj. y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predicado: SN, S Adj. , S Adv. y 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jetival: S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lementos del núcleo del sintagma adverbial: S Pre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2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21:26:48Z</dcterms:modified>
  <cp:revision>5</cp:revision>
  <dc:subject/>
  <dc:title>Diapositiva 1</dc:title>
</cp:coreProperties>
</file>